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8.gif" ContentType="image/gif"/>
  <Override PartName="/ppt/media/image13.png" ContentType="image/png"/>
  <Override PartName="/ppt/media/image4.gif" ContentType="image/gif"/>
  <Override PartName="/ppt/media/image7.png" ContentType="image/png"/>
  <Override PartName="/ppt/media/image19.gif" ContentType="image/gif"/>
  <Override PartName="/ppt/media/image1.gif" ContentType="image/gif"/>
  <Override PartName="/ppt/media/image10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30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3CE-36A7-4B69-AA0F-ADD40C33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E0C-F396-4750-A8A4-EB67FF22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69A-10B7-4711-8E1A-E16DB80D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845-922D-4867-A590-A348C023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067-043A-4ECB-A6BD-D9688189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620-FB02-4640-B09E-C022F7BF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1CC-78C2-4953-BD01-1B7825EC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648-239B-4F4D-991B-35EC0AF6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B63-6083-48CC-A8DD-26A6C39A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913-17B7-4EAC-8021-DC81245A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C2D-8293-4614-B419-FEDCFF86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7E2-7877-4D8C-9456-81BFEFDE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0EF1-DBA8-4046-BA7D-313CABD00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C:\Documents and Settings\Dad\My Documents\AP Physics B\Waves\wavetr[1].avi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hyperlink" Target="C:\Documents and Settings\Dad\My Documents\AP Physics B\Waves\wavelong[1].avi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:\Documents and Settings\Dad\My Documents\AP Physics B\Waves\wavewat[1].avi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m: What are they and how do they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1555920"/>
            <a:ext cx="3124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ep in m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though particles in the medium of a mechanical wave move in response to the wave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y do not move along with the wa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ve only transfers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happens to be a very effective means of transferring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ERG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724640" cy="4724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4120" y="342900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terms common to all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disturbance that travels through a me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553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iodic W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eries of pulses moving in a regular repeating mann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hat All Waves Have in Com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st and Tr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rest is the high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ough is the low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24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35812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wave is the distance from a crest to where the wave is at equilibrium.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 amplitude is used to measure the energy transferred by the wav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bigger the distance, the greater the energy trans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Amplitude: The maximum value of the wave function. The higher the amplitude, the louder the sound.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iod (T) (in second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long it takes one cycle of a wave to repeat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2170080"/>
            <a:ext cx="80769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 (f) (in Hertz H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mount of wave cycles per 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 = 1/T therefore T = 1/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the frequency of a wave with a period of 0.5 seco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3879720"/>
            <a:ext cx="518148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ves carry energy!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re are 3 basic typ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cal Waves(sou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magnetic Waves(l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Waves(atomic partic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λ) (in meter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ance between repeating part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st to c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ough to 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Example of wavelength"/>
          <p:cNvPicPr/>
          <p:nvPr/>
        </p:nvPicPr>
        <p:blipFill>
          <a:blip r:embed="rId1"/>
          <a:stretch/>
        </p:blipFill>
        <p:spPr>
          <a:xfrm>
            <a:off x="380880" y="3919680"/>
            <a:ext cx="84582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ints on successive wave cycles of a periodic wave that are displaced by the same amount and in the same direction (away or towards) equilibrium, are said to be in ph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Constructive Interference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zation of a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13520" y="1600200"/>
            <a:ext cx="305892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9480" y="1905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ransverse wave can be pola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ing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 appears to be standing still as the result of identical waves moving in opposit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standingwavequestion.gif (11043 bytes)"/>
          <p:cNvPicPr/>
          <p:nvPr/>
        </p:nvPicPr>
        <p:blipFill>
          <a:blip r:embed="rId1"/>
          <a:stretch/>
        </p:blipFill>
        <p:spPr>
          <a:xfrm>
            <a:off x="380880" y="3224160"/>
            <a:ext cx="8763120" cy="356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99072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886200"/>
            <a:ext cx="175284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657240" y="4038480"/>
            <a:ext cx="685800" cy="990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038480"/>
            <a:ext cx="7596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038480"/>
            <a:ext cx="838440" cy="990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37920" y="4038480"/>
            <a:ext cx="1752840" cy="990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038480"/>
            <a:ext cx="1981440" cy="990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962520"/>
            <a:ext cx="2743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3962520"/>
            <a:ext cx="37339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3886200"/>
            <a:ext cx="4800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d of a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foun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λ/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= meters/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 = f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eed of any particular wave depends ONLY on the medium it i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Interaction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wo Waves Meet, Two Things Can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ve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eak of one wave matches up with the peak of another 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amplitude is the sum of the amplitudes of both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14360" y="3094200"/>
            <a:ext cx="6515280" cy="671400"/>
            <a:chOff x="1314360" y="3094200"/>
            <a:chExt cx="6515280" cy="671400"/>
          </a:xfrm>
        </p:grpSpPr>
        <p:sp>
          <p:nvSpPr>
            <p:cNvPr id="126" name=""/>
            <p:cNvSpPr/>
            <p:nvPr/>
          </p:nvSpPr>
          <p:spPr>
            <a:xfrm>
              <a:off x="1314360" y="3094200"/>
              <a:ext cx="6515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14360" y="3094200"/>
              <a:ext cx="65152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704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Constructive Interference"/>
          <p:cNvPicPr/>
          <p:nvPr/>
        </p:nvPicPr>
        <p:blipFill>
          <a:blip r:embed="rId1"/>
          <a:stretch/>
        </p:blipFill>
        <p:spPr>
          <a:xfrm>
            <a:off x="4419720" y="2230560"/>
            <a:ext cx="472428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tructive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crest of one wave and the trough of another line up you have total de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vel of destructive interference depends on how well they lin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14360" y="3009960"/>
            <a:ext cx="6515280" cy="838080"/>
            <a:chOff x="1314360" y="3009960"/>
            <a:chExt cx="6515280" cy="838080"/>
          </a:xfrm>
        </p:grpSpPr>
        <p:sp>
          <p:nvSpPr>
            <p:cNvPr id="133" name=""/>
            <p:cNvSpPr/>
            <p:nvPr/>
          </p:nvSpPr>
          <p:spPr>
            <a:xfrm>
              <a:off x="1314360" y="3009960"/>
              <a:ext cx="6515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4360" y="3009960"/>
              <a:ext cx="651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704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Destructive Interference"/>
          <p:cNvPicPr/>
          <p:nvPr/>
        </p:nvPicPr>
        <p:blipFill>
          <a:blip r:embed="rId1"/>
          <a:stretch/>
        </p:blipFill>
        <p:spPr>
          <a:xfrm>
            <a:off x="3886200" y="1981080"/>
            <a:ext cx="48769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6324840" cy="4711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th Types of Interfer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20574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6576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1814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380880"/>
            <a:ext cx="1828800" cy="1557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 of maximum constructive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781680" y="1905120"/>
            <a:ext cx="533520" cy="5331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81680" y="1905120"/>
            <a:ext cx="1067040" cy="2133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933960" y="1905120"/>
            <a:ext cx="1600200" cy="3733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lltale Sign of a Wav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is experiment is performed, and the result is the appearance of thes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xi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 you know that the thing in question moves as a w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out that this works for light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people to believe light travels as a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a medium for the wave to propa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32767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ng’s Double Slit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581640" cy="2678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9480" y="28954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0" y="2362320"/>
                <a:ext cx="4038480" cy="24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λL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2743200" y="5257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between bright  spots/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114800" y="4038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1447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far away screen is from s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17524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44197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between s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772040" y="4266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49568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of bands: first, second, third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 of light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22860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629400" y="33526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0880" y="457200"/>
                <a:ext cx="346104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λL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286000" y="3505320"/>
            <a:ext cx="763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4343400"/>
            <a:ext cx="76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5181480"/>
            <a:ext cx="76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12408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434340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2590920"/>
            <a:ext cx="304920" cy="4267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343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4495680"/>
            <a:ext cx="22860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666880"/>
            <a:ext cx="22860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86000" y="2819520"/>
            <a:ext cx="34290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2819160"/>
            <a:ext cx="33526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472428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73760" y="4227480"/>
            <a:ext cx="207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Bright 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43828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Order Ma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91320" y="27432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866920" y="44956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2819520"/>
            <a:ext cx="533160" cy="1904760"/>
          </a:xfrm>
          <a:custGeom>
            <a:avLst/>
            <a:gdLst>
              <a:gd name="textAreaLeft" fmla="*/ 0 w 533160"/>
              <a:gd name="textAreaRight" fmla="*/ 192600 w 5331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3581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510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4267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590560" y="495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4572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228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eperation to the first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Dictates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58680" y="1600200"/>
            <a:ext cx="72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MEDIUM REQU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vel at the speed of light (299,792,458m/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x-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2880" y="371484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ter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and other particles show wave-like behav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some freaky stuff we will study in Quantum Physic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classified by the way that they move (displace) the medium they ar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hree types of mechanical wave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e Waves(ligh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5029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the medium in which the wave moves through to move perpendicularly to the direction the wave is trav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waves travel in straight lines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eed a medium to tra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oint on a wave"/>
          <p:cNvPicPr/>
          <p:nvPr/>
        </p:nvPicPr>
        <p:blipFill>
          <a:blip r:embed="rId1"/>
          <a:stretch/>
        </p:blipFill>
        <p:spPr>
          <a:xfrm>
            <a:off x="5105520" y="1295280"/>
            <a:ext cx="3809880" cy="2424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/>
          </p:cNvPr>
          <p:cNvSpPr/>
          <p:nvPr/>
        </p:nvSpPr>
        <p:spPr>
          <a:xfrm>
            <a:off x="7848720" y="56386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301"/>
                </a:moveTo>
                <a:lnTo>
                  <a:pt x="9021" y="7301"/>
                </a:lnTo>
                <a:lnTo>
                  <a:pt x="9404" y="7667"/>
                </a:lnTo>
                <a:lnTo>
                  <a:pt x="18613" y="7667"/>
                </a:lnTo>
                <a:lnTo>
                  <a:pt x="19170" y="8224"/>
                </a:lnTo>
                <a:lnTo>
                  <a:pt x="19170" y="8772"/>
                </a:lnTo>
                <a:lnTo>
                  <a:pt x="21015" y="8772"/>
                </a:lnTo>
                <a:lnTo>
                  <a:pt x="21381" y="8224"/>
                </a:lnTo>
                <a:lnTo>
                  <a:pt x="22120" y="8224"/>
                </a:lnTo>
                <a:lnTo>
                  <a:pt x="22120" y="13376"/>
                </a:lnTo>
                <a:lnTo>
                  <a:pt x="21381" y="13376"/>
                </a:lnTo>
                <a:lnTo>
                  <a:pt x="21015" y="12828"/>
                </a:lnTo>
                <a:lnTo>
                  <a:pt x="19170" y="12828"/>
                </a:lnTo>
                <a:lnTo>
                  <a:pt x="19170" y="14107"/>
                </a:lnTo>
                <a:lnTo>
                  <a:pt x="9587" y="14107"/>
                </a:lnTo>
                <a:lnTo>
                  <a:pt x="9587" y="9877"/>
                </a:lnTo>
                <a:lnTo>
                  <a:pt x="9404" y="9877"/>
                </a:lnTo>
                <a:lnTo>
                  <a:pt x="9021" y="10243"/>
                </a:lnTo>
                <a:lnTo>
                  <a:pt x="8107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itudinal Waves(soun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um moves in the same direction as the w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cles get compres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nd waves travel in all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876920" cy="22766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/>
          </p:cNvPr>
          <p:cNvSpPr/>
          <p:nvPr/>
        </p:nvSpPr>
        <p:spPr>
          <a:xfrm>
            <a:off x="3886200" y="3124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8698" y="7301"/>
                </a:moveTo>
                <a:lnTo>
                  <a:pt x="9611" y="7301"/>
                </a:lnTo>
                <a:lnTo>
                  <a:pt x="9994" y="7667"/>
                </a:lnTo>
                <a:lnTo>
                  <a:pt x="19203" y="7667"/>
                </a:lnTo>
                <a:lnTo>
                  <a:pt x="19760" y="8224"/>
                </a:lnTo>
                <a:lnTo>
                  <a:pt x="19760" y="8772"/>
                </a:lnTo>
                <a:lnTo>
                  <a:pt x="21605" y="8772"/>
                </a:lnTo>
                <a:lnTo>
                  <a:pt x="21971" y="8224"/>
                </a:lnTo>
                <a:lnTo>
                  <a:pt x="22711" y="8224"/>
                </a:lnTo>
                <a:lnTo>
                  <a:pt x="22711" y="13376"/>
                </a:lnTo>
                <a:lnTo>
                  <a:pt x="21971" y="13376"/>
                </a:lnTo>
                <a:lnTo>
                  <a:pt x="21605" y="12828"/>
                </a:lnTo>
                <a:lnTo>
                  <a:pt x="19760" y="12828"/>
                </a:lnTo>
                <a:lnTo>
                  <a:pt x="19760" y="14107"/>
                </a:lnTo>
                <a:lnTo>
                  <a:pt x="10177" y="14107"/>
                </a:lnTo>
                <a:lnTo>
                  <a:pt x="10177" y="9877"/>
                </a:lnTo>
                <a:lnTo>
                  <a:pt x="9994" y="9877"/>
                </a:lnTo>
                <a:lnTo>
                  <a:pt x="9611" y="10243"/>
                </a:lnTo>
                <a:lnTo>
                  <a:pt x="8698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haracteristics of both Transverse and longitudinal w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w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762120" y="5410080"/>
            <a:ext cx="1447560" cy="106704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0" h="21600">
                <a:moveTo>
                  <a:pt x="0" y="0"/>
                </a:moveTo>
                <a:lnTo>
                  <a:pt x="29300" y="0"/>
                </a:lnTo>
                <a:lnTo>
                  <a:pt x="29300" y="21600"/>
                </a:lnTo>
                <a:lnTo>
                  <a:pt x="0" y="21600"/>
                </a:lnTo>
                <a:close/>
              </a:path>
              <a:path fill="lightenLess" w="29300" h="21600">
                <a:moveTo>
                  <a:pt x="0" y="0"/>
                </a:moveTo>
                <a:lnTo>
                  <a:pt x="29300" y="0"/>
                </a:lnTo>
                <a:lnTo>
                  <a:pt x="27900" y="1400"/>
                </a:lnTo>
                <a:lnTo>
                  <a:pt x="1400" y="1400"/>
                </a:lnTo>
                <a:close/>
              </a:path>
              <a:path fill="darken" w="29300" h="21600">
                <a:moveTo>
                  <a:pt x="29300" y="0"/>
                </a:moveTo>
                <a:lnTo>
                  <a:pt x="29300" y="21600"/>
                </a:lnTo>
                <a:lnTo>
                  <a:pt x="27900" y="20200"/>
                </a:lnTo>
                <a:lnTo>
                  <a:pt x="27900" y="1400"/>
                </a:lnTo>
                <a:close/>
              </a:path>
              <a:path fill="darkenLess" w="29300" h="21600">
                <a:moveTo>
                  <a:pt x="29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0" y="20200"/>
                </a:lnTo>
                <a:close/>
              </a:path>
              <a:path fill="lighten" w="29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0" h="21600">
                <a:moveTo>
                  <a:pt x="7644" y="7301"/>
                </a:moveTo>
                <a:lnTo>
                  <a:pt x="8558" y="7301"/>
                </a:lnTo>
                <a:lnTo>
                  <a:pt x="8940" y="7667"/>
                </a:lnTo>
                <a:lnTo>
                  <a:pt x="18149" y="7667"/>
                </a:lnTo>
                <a:lnTo>
                  <a:pt x="18706" y="8224"/>
                </a:lnTo>
                <a:lnTo>
                  <a:pt x="18706" y="8772"/>
                </a:lnTo>
                <a:lnTo>
                  <a:pt x="20551" y="8772"/>
                </a:lnTo>
                <a:lnTo>
                  <a:pt x="20917" y="8224"/>
                </a:lnTo>
                <a:lnTo>
                  <a:pt x="21657" y="8224"/>
                </a:lnTo>
                <a:lnTo>
                  <a:pt x="21657" y="13376"/>
                </a:lnTo>
                <a:lnTo>
                  <a:pt x="20917" y="13376"/>
                </a:lnTo>
                <a:lnTo>
                  <a:pt x="20551" y="12828"/>
                </a:lnTo>
                <a:lnTo>
                  <a:pt x="18706" y="12828"/>
                </a:lnTo>
                <a:lnTo>
                  <a:pt x="18706" y="14107"/>
                </a:lnTo>
                <a:lnTo>
                  <a:pt x="9123" y="14107"/>
                </a:lnTo>
                <a:lnTo>
                  <a:pt x="9123" y="9877"/>
                </a:lnTo>
                <a:lnTo>
                  <a:pt x="8940" y="9877"/>
                </a:lnTo>
                <a:lnTo>
                  <a:pt x="8558" y="10243"/>
                </a:lnTo>
                <a:lnTo>
                  <a:pt x="7644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4114800"/>
            <a:ext cx="3581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23:00:31Z</dcterms:created>
  <dc:creator>James Keelty</dc:creator>
  <dc:description/>
  <dc:language>en-US</dc:language>
  <cp:lastModifiedBy>SOCSD</cp:lastModifiedBy>
  <dcterms:modified xsi:type="dcterms:W3CDTF">2009-04-23T16:50:18Z</dcterms:modified>
  <cp:revision>27</cp:revision>
  <dc:subject/>
  <dc:title>Light</dc:title>
</cp:coreProperties>
</file>